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5494-A483-460E-AB17-168B835C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777-63BB-4683-BD43-CB6E493A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553-26D7-411C-8466-8F299423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C069-DD58-4BE8-B099-BC49211E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705-B815-413C-98C7-BB8DF79F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37BC-E861-47AD-8CE0-C312C592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AAC-E960-4B6F-BE53-91E58843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AE7-66C4-4033-8817-C15ACDFE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100-EF7F-45F0-B693-C7C1EDB8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6F4-7A2C-4624-8FD4-83ACA23B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A26-62C1-4AA8-9045-3D500409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2D34-9017-4139-B3DB-3489E096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A484-3114-4C75-BA34-50927FBD17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377280"/>
            <a:ext cx="9338400" cy="6096600"/>
            <a:chOff x="0" y="-377280"/>
            <a:chExt cx="9338400" cy="609660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7924680" cy="297180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0976000">
              <a:off x="374760" y="1736280"/>
              <a:ext cx="3362040" cy="3709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0164800">
              <a:off x="5409720" y="304200"/>
              <a:ext cx="3733920" cy="17496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1992960" y="614520"/>
            <a:ext cx="554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日常生活中，同学们应该都会看到或者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亲身经历过如下场面：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我们伸长脖子在路过等车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车终于开过来了，我们满心欢喜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即使车箱已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很拥挤，我们仍然强烈希望车能停下来，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如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汽车司机胆敢不停车，我们一定会大骂司机“混帐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但当我们终于上了车，在车上看到车外拥挤等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的人们，我们心底却偷偷希望司机不要停车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如果司机果然不停车，汽车在拥挤的人群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呼啸而过，车里的人就会大声欢呼“司机万岁”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-377280"/>
            <a:ext cx="9338400" cy="6096600"/>
            <a:chOff x="0" y="-377280"/>
            <a:chExt cx="9338400" cy="609660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924680" cy="297180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0976000">
              <a:off x="374760" y="1736280"/>
              <a:ext cx="3362040" cy="3709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0164800">
              <a:off x="5409720" y="304200"/>
              <a:ext cx="3733920" cy="17496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332000" y="476280"/>
            <a:ext cx="4205160" cy="977400"/>
            <a:chOff x="1332000" y="476280"/>
            <a:chExt cx="4205160" cy="977400"/>
          </a:xfrm>
        </p:grpSpPr>
        <p:sp>
          <p:nvSpPr>
            <p:cNvPr id="116" name=""/>
            <p:cNvSpPr/>
            <p:nvPr/>
          </p:nvSpPr>
          <p:spPr>
            <a:xfrm>
              <a:off x="3161880" y="476280"/>
              <a:ext cx="237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我理想中的班集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1332000" y="487080"/>
              <a:ext cx="1211040" cy="96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1794240" y="2527200"/>
            <a:ext cx="577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</a:rPr>
              <a:t>新的生活，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新的学习，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新的征程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应首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从爱我们的集体开始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78560" y="4643280"/>
            <a:ext cx="519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让别人因为我的存在而感到幸福</a:t>
            </a: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-377280"/>
            <a:ext cx="9338400" cy="6096600"/>
            <a:chOff x="0" y="-377280"/>
            <a:chExt cx="9338400" cy="60966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7924680" cy="297180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976000">
              <a:off x="374760" y="1736280"/>
              <a:ext cx="3362040" cy="3709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20164800">
              <a:off x="5409720" y="304200"/>
              <a:ext cx="3733920" cy="17496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324000" y="260280"/>
            <a:ext cx="8343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车内和车外属于不同的利益团体，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不同的利益团体，就会对事物有不同的态度，以维护自身的利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共坐一辆车，短短的一段路程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短短的一段时间，我们都会有共同的利益，都会为维护自身利益而团结一致起来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-377280"/>
            <a:ext cx="9338400" cy="6096600"/>
            <a:chOff x="0" y="-377280"/>
            <a:chExt cx="9338400" cy="60966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7924680" cy="297180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20976000">
              <a:off x="374760" y="1736280"/>
              <a:ext cx="3362040" cy="3709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20164800">
              <a:off x="5409720" y="304200"/>
              <a:ext cx="3733920" cy="17496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50920" y="358920"/>
            <a:ext cx="8496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现在，我们同在一个班集体，上了同一辆车，在这辆车上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我们的共处的时间不是短短的几个小时，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而是整整一年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我们之间的关系不是萍水相逢，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而是朝夕相处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我们的目的地不是某个简单的地方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而是影响到我们一生的大学梦想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我们前进的动力不是简单地依赖某个司机的熟练操作，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而是需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全体成员的团结协作和共同努力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33360"/>
            <a:ext cx="7924680" cy="297180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76000">
            <a:off x="374400" y="2070000"/>
            <a:ext cx="3362040" cy="37101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0164800">
            <a:off x="5410080" y="637920"/>
            <a:ext cx="3733920" cy="17492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719280"/>
            <a:ext cx="8115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新的集体，新的征程</a:t>
            </a:r>
            <a:endParaRPr b="0" lang="en-US" sz="6600" spc="1" strike="noStrike">
              <a:ln w="9360">
                <a:solidFill>
                  <a:srgbClr val="00cc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989600" y="3139920"/>
            <a:ext cx="4190760" cy="367380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468360" y="2205000"/>
            <a:ext cx="3641400" cy="642600"/>
            <a:chOff x="468360" y="2205000"/>
            <a:chExt cx="3641400" cy="642600"/>
          </a:xfrm>
        </p:grpSpPr>
        <p:sp>
          <p:nvSpPr>
            <p:cNvPr id="62" name=""/>
            <p:cNvSpPr/>
            <p:nvPr/>
          </p:nvSpPr>
          <p:spPr>
            <a:xfrm>
              <a:off x="1734480" y="2205000"/>
              <a:ext cx="237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80"/>
                  </a:solidFill>
                  <a:latin typeface="Times New Roman"/>
                </a:rPr>
                <a:t>我为班做了什么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468360" y="2409840"/>
              <a:ext cx="45684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324000" y="3068640"/>
            <a:ext cx="6080040" cy="642600"/>
            <a:chOff x="324000" y="3068640"/>
            <a:chExt cx="6080040" cy="642600"/>
          </a:xfrm>
        </p:grpSpPr>
        <p:sp>
          <p:nvSpPr>
            <p:cNvPr id="65" name=""/>
            <p:cNvSpPr/>
            <p:nvPr/>
          </p:nvSpPr>
          <p:spPr>
            <a:xfrm>
              <a:off x="1042920" y="3068640"/>
              <a:ext cx="536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我能为班做什么事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324000" y="3160800"/>
              <a:ext cx="647640" cy="47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190440" y="4005360"/>
            <a:ext cx="4578120" cy="1191240"/>
            <a:chOff x="190440" y="4005360"/>
            <a:chExt cx="4578120" cy="1191240"/>
          </a:xfrm>
        </p:grpSpPr>
        <p:sp>
          <p:nvSpPr>
            <p:cNvPr id="68" name=""/>
            <p:cNvSpPr/>
            <p:nvPr/>
          </p:nvSpPr>
          <p:spPr>
            <a:xfrm>
              <a:off x="1844640" y="400536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cc99"/>
                  </a:solidFill>
                  <a:latin typeface="Times New Roman"/>
                </a:rPr>
                <a:t>班上有哪些好的地方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cc99"/>
                  </a:solidFill>
                  <a:latin typeface="Times New Roman"/>
                </a:rPr>
                <a:t>有哪些需要改进的地方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190440" y="4332240"/>
              <a:ext cx="852480" cy="68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"/>
          <p:cNvGrpSpPr/>
          <p:nvPr/>
        </p:nvGrpSpPr>
        <p:grpSpPr>
          <a:xfrm>
            <a:off x="47520" y="5445000"/>
            <a:ext cx="4205520" cy="978120"/>
            <a:chOff x="47520" y="5445000"/>
            <a:chExt cx="4205520" cy="978120"/>
          </a:xfrm>
        </p:grpSpPr>
        <p:sp>
          <p:nvSpPr>
            <p:cNvPr id="71" name=""/>
            <p:cNvSpPr/>
            <p:nvPr/>
          </p:nvSpPr>
          <p:spPr>
            <a:xfrm>
              <a:off x="1877760" y="5445000"/>
              <a:ext cx="237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我理想中的班集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5"/>
            <a:stretch/>
          </p:blipFill>
          <p:spPr>
            <a:xfrm>
              <a:off x="47520" y="5456160"/>
              <a:ext cx="1211400" cy="96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-391680"/>
            <a:ext cx="9338400" cy="6096600"/>
            <a:chOff x="0" y="-391680"/>
            <a:chExt cx="9338400" cy="6096600"/>
          </a:xfrm>
        </p:grpSpPr>
        <p:sp>
          <p:nvSpPr>
            <p:cNvPr id="74" name=""/>
            <p:cNvSpPr/>
            <p:nvPr/>
          </p:nvSpPr>
          <p:spPr>
            <a:xfrm>
              <a:off x="0" y="-14400"/>
              <a:ext cx="7924680" cy="297180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0976000">
              <a:off x="374760" y="1721880"/>
              <a:ext cx="3362040" cy="3709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0164800">
              <a:off x="5409720" y="289800"/>
              <a:ext cx="3733920" cy="17496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650960" y="598320"/>
            <a:ext cx="4813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认真做好值日工作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无论在宿舍还是在教室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最后走会关空调、门、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出黑板报；搬书；做好两操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提教学和班集体的意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为班活动付出实际行动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去化学实验室劳动；定班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积极配合班干部的工作；做好本职工作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管理好宿舍的纪律和卫生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配合好老师上课；遵守好课堂纪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地上有纸或粉笔就帮忙捡起来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升旗不迟到不讲话；自习晚修不讲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持早读；带队；带操；组织踢球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积极参与各种课外活动和奥赛选拔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尽心尽力收作业；管理纪律。。。。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39640" y="0"/>
            <a:ext cx="3642120" cy="642600"/>
            <a:chOff x="539640" y="0"/>
            <a:chExt cx="3642120" cy="642600"/>
          </a:xfrm>
        </p:grpSpPr>
        <p:sp>
          <p:nvSpPr>
            <p:cNvPr id="79" name=""/>
            <p:cNvSpPr/>
            <p:nvPr/>
          </p:nvSpPr>
          <p:spPr>
            <a:xfrm>
              <a:off x="1806480" y="0"/>
              <a:ext cx="237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80"/>
                  </a:solidFill>
                  <a:latin typeface="Times New Roman"/>
                </a:rPr>
                <a:t>我为班做了什么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39640" y="204840"/>
              <a:ext cx="457200" cy="365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-377280"/>
            <a:ext cx="9338400" cy="6096600"/>
            <a:chOff x="0" y="-377280"/>
            <a:chExt cx="9338400" cy="6096600"/>
          </a:xfrm>
        </p:grpSpPr>
        <p:sp>
          <p:nvSpPr>
            <p:cNvPr id="82" name=""/>
            <p:cNvSpPr/>
            <p:nvPr/>
          </p:nvSpPr>
          <p:spPr>
            <a:xfrm>
              <a:off x="0" y="0"/>
              <a:ext cx="7924680" cy="297180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976000">
              <a:off x="374760" y="1736280"/>
              <a:ext cx="3362040" cy="3709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0164800">
              <a:off x="5409720" y="304200"/>
              <a:ext cx="3733920" cy="17496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24000" y="1341360"/>
            <a:ext cx="9072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力所能及的事，积极完成；力所不能及尽自己努力完成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认真学习，不拉低班平均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组织节目；校运会积极参加或做后勤工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积极参加课外活动比赛，为班增光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好自己的职责（卫生、纪律、两操。。。八项检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在学习上能帮助同学的尽量帮助，多为班出谋献策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遵规守纪，认真做好每一件事，使班集体不会因为我而扣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更好发挥带头作用，敢为人先，带动班集体积极向上；（吕渭星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互相帮助，共同进步，形成团结友爱的班风；（陈国伟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组织、筹办一些学科比赛，提高学习氛围；（肖嘉俊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帮助老师搞好同学们的英语学习；（梁嘉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赴汤蹈火，在所不辞，任劳任怨；（陈子豪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眼保健操管理员，督促同学们做好眼保健操；（洪文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24000" y="189000"/>
            <a:ext cx="6080040" cy="642600"/>
            <a:chOff x="324000" y="189000"/>
            <a:chExt cx="6080040" cy="642600"/>
          </a:xfrm>
        </p:grpSpPr>
        <p:sp>
          <p:nvSpPr>
            <p:cNvPr id="87" name=""/>
            <p:cNvSpPr/>
            <p:nvPr/>
          </p:nvSpPr>
          <p:spPr>
            <a:xfrm>
              <a:off x="1042920" y="189000"/>
              <a:ext cx="536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我能为班做什么事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324000" y="280800"/>
              <a:ext cx="647640" cy="47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-377280"/>
            <a:ext cx="9338400" cy="6096600"/>
            <a:chOff x="0" y="-377280"/>
            <a:chExt cx="9338400" cy="60966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7924680" cy="297180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0976000">
              <a:off x="374760" y="1736280"/>
              <a:ext cx="3362040" cy="3709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0164800">
              <a:off x="5409720" y="304200"/>
              <a:ext cx="3733920" cy="17496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499480" y="1668600"/>
            <a:ext cx="4326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好的方面：同学们相处的很融洽开心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班干部、科代表、组长都很认真负责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大家都团结合作，乐于助人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学习积极性高，氛围很好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班集体荣誉感好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没有或极少自私自利的现象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没有出现损害集体利益的现象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参加竞赛选拔的同学很多，很积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男生参加体育活动积极性较高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62040" y="115920"/>
            <a:ext cx="4578120" cy="1191240"/>
            <a:chOff x="662040" y="115920"/>
            <a:chExt cx="4578120" cy="1191240"/>
          </a:xfrm>
        </p:grpSpPr>
        <p:sp>
          <p:nvSpPr>
            <p:cNvPr id="95" name=""/>
            <p:cNvSpPr/>
            <p:nvPr/>
          </p:nvSpPr>
          <p:spPr>
            <a:xfrm>
              <a:off x="2316240" y="11592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d60093"/>
                  </a:solidFill>
                  <a:latin typeface="Times New Roman"/>
                </a:rPr>
                <a:t>班上有哪些好的地方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d60093"/>
                  </a:solidFill>
                  <a:latin typeface="Times New Roman"/>
                </a:rPr>
                <a:t>有哪些需要改进的地方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62040" y="442800"/>
              <a:ext cx="852480" cy="681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-377280"/>
            <a:ext cx="9338400" cy="6096600"/>
            <a:chOff x="0" y="-377280"/>
            <a:chExt cx="9338400" cy="6096600"/>
          </a:xfrm>
        </p:grpSpPr>
        <p:sp>
          <p:nvSpPr>
            <p:cNvPr id="98" name=""/>
            <p:cNvSpPr/>
            <p:nvPr/>
          </p:nvSpPr>
          <p:spPr>
            <a:xfrm>
              <a:off x="0" y="0"/>
              <a:ext cx="7924680" cy="297180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0976000">
              <a:off x="374760" y="1736280"/>
              <a:ext cx="3362040" cy="3709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0164800">
              <a:off x="5409720" y="304200"/>
              <a:ext cx="3733920" cy="17496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030400" y="260280"/>
            <a:ext cx="5514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需要改进的地方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班规制度实行不够严谨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课堂气氛不够活跃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主动起身回答问题的只有少数几个同学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同学们表达意见和建议时积极性不高，应该增强自信心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自修和晚修时间纪律不好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搞卫生不够自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两操、升旗、集会不认真，有人讲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班干部应该大胆管理班级，批评违纪的同学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要形成一种正确的集体舆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部分男生粗言秽语或语言不文明；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起花名现象不要过火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个别同学经常找别的同学开玩笑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取笑别人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有同学在班上打球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还没有形成良好的学习及休息环境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宿舍有相互影响休息的现象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-377280"/>
            <a:ext cx="9338400" cy="6096600"/>
            <a:chOff x="0" y="-377280"/>
            <a:chExt cx="9338400" cy="6096600"/>
          </a:xfrm>
        </p:grpSpPr>
        <p:sp>
          <p:nvSpPr>
            <p:cNvPr id="103" name=""/>
            <p:cNvSpPr/>
            <p:nvPr/>
          </p:nvSpPr>
          <p:spPr>
            <a:xfrm>
              <a:off x="0" y="0"/>
              <a:ext cx="7924680" cy="297180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20976000">
              <a:off x="374760" y="1736280"/>
              <a:ext cx="3362040" cy="3709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20164800">
              <a:off x="5409720" y="304200"/>
              <a:ext cx="3733920" cy="17496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258920" y="765000"/>
            <a:ext cx="4205160" cy="978120"/>
            <a:chOff x="1258920" y="765000"/>
            <a:chExt cx="4205160" cy="978120"/>
          </a:xfrm>
        </p:grpSpPr>
        <p:sp>
          <p:nvSpPr>
            <p:cNvPr id="107" name=""/>
            <p:cNvSpPr/>
            <p:nvPr/>
          </p:nvSpPr>
          <p:spPr>
            <a:xfrm>
              <a:off x="3088800" y="765000"/>
              <a:ext cx="237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我理想中的班集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258920" y="776160"/>
              <a:ext cx="1211040" cy="96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3327120" y="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大家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44240" y="1700280"/>
            <a:ext cx="6512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有集体观念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团结的集体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事事以集体荣誉为先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努力学习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学风浓厚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积极讨论学科问题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有纪律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松紧有度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自修时能安静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课后再多讨论问题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你追我赶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力争上游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凡事大家齐心合力做到更好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互相帮助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主动帮助有困难的同学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同学间团结友爱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有团体精神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积极向上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动静分明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融洽相处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同学间互相尊重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没有歧视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不孤立任何一个同学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自由平等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是一个充满爱的集体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让每位同学都感到集体的温暖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有良好的班风学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人人以违纪为耻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人人争当模范先锋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同学们积极参加集体活动和体育活动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规范与个性共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特长的同学善于表现出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班争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11:12Z</dcterms:modified>
  <cp:revision>19</cp:revision>
  <dc:subject>主题班会课件(分28大类): http://shop62905894.taobao.com</dc:subject>
  <dc:title>主题班会课件(分28大类): http://shop62905894.taobao.com</dc:title>
</cp:coreProperties>
</file>